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4752-0BCA-41EE-A0CE-9144A9E2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E044-7930-4D05-8A32-BB78ED98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7DD7-BD21-4EF5-93CF-B52A92BE5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6D16-5589-480A-8C3E-176FD83D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4613-19A6-441D-A699-B3484B3E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10E8-83CD-4A8D-BB1F-96A0119B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EF69-0968-4CAB-B03C-068518EC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3777-324D-4D0C-A1F0-D4D255C7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4E43-98C1-48B1-B8F8-ABF99747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36AF-7124-4224-BE49-7D789946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F6BF-7BCB-4B05-B39A-DF1DEEFA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F9CC-69C2-43F7-B4B9-4DFB0225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1272-3165-44E1-A90A-9446B0509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ordin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am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45720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CT Kick-off Meeting Updat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CT Meeting was held on 3/2 (Aust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y five people were in attendance for our kickoff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 document was handed over from the TX SET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2.1 approved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 Change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45720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ck-off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CT Meeting Update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ed TX SET handoff docu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ed each Requirement and Change Contr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de appropriate updates to the wording for c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ed Issue Log for items needing further cla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a high-level determination of the proposed changes and content to each transaction / busines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MS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Content and Format for monthly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 of all MPs status (Design, Code, T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ed future meeting schedu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nd future meetings will piggy-back the TX SET working group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71800" y="45720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m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review of requirements (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any system issues that would prohibit implementation upon review of Change Contr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any Market Reports be affec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Protocols be affec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of Issues Log for future meeting top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with questions/comments COB Friday 3/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nts will be summarized and distributed for review during April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45720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Dates and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T made the recommendation to host meetings in alternate locations to encourage 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 – AEP’s offices in Corpus Christi (4/6 &amp; 4/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– Entergy in New Orl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– Reliant in Hous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– Direct Energy / AEP in Tul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gust – TXU in Dal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 – ERCOT in Aus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 – Center Point in Hous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 dates for the above schedule will be coordinated with TX SET and communicated as soon as they have been confi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45720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Meet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96360" y="538488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44360" y="538488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92360" y="5384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7440" y="538488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98520" y="538488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5280" y="53848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4495680"/>
            <a:ext cx="7924680" cy="838440"/>
          </a:xfrm>
          <a:prstGeom prst="rightArrow">
            <a:avLst>
              <a:gd name="adj1" fmla="val 36602"/>
              <a:gd name="adj2" fmla="val 3885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11720" y="541008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10040" y="5410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79200" y="54100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64200" y="541008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6520" y="5384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3489480"/>
            <a:ext cx="1600200" cy="380880"/>
          </a:xfrm>
          <a:prstGeom prst="flowChartProcess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ight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45720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Tim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69000" y="5410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2975040"/>
            <a:ext cx="1905120" cy="380880"/>
          </a:xfrm>
          <a:prstGeom prst="flowChartProcess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nectivity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3987720"/>
            <a:ext cx="1676160" cy="381240"/>
          </a:xfrm>
          <a:prstGeom prst="flowChartProcess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2470320"/>
            <a:ext cx="1295640" cy="380880"/>
          </a:xfrm>
          <a:prstGeom prst="flowChartProcess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14640" y="1981080"/>
            <a:ext cx="1752840" cy="381240"/>
          </a:xfrm>
          <a:prstGeom prst="flowChartProcess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livered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6880" y="3352680"/>
            <a:ext cx="1295280" cy="685800"/>
          </a:xfrm>
          <a:prstGeom prst="flowChartProcess">
            <a:avLst/>
          </a:prstGeom>
          <a:solidFill>
            <a:srgbClr val="cc6600"/>
          </a:solidFill>
          <a:ln w="0">
            <a:noFill/>
          </a:ln>
          <a:effectLst>
            <a:outerShdw dist="17819" dir="2700000" blurRad="0" rotWithShape="0">
              <a:srgbClr val="79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tail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90720" y="4038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236232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2895480"/>
            <a:ext cx="0" cy="18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3352680"/>
            <a:ext cx="0" cy="13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53080" y="3886200"/>
            <a:ext cx="0" cy="8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72400" y="4419720"/>
            <a:ext cx="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6120" y="2209680"/>
            <a:ext cx="1434960" cy="685800"/>
          </a:xfrm>
          <a:prstGeom prst="flowChartProcess">
            <a:avLst/>
          </a:prstGeom>
          <a:solidFill>
            <a:srgbClr val="ff5050"/>
          </a:solidFill>
          <a:ln w="0">
            <a:noFill/>
          </a:ln>
          <a:effectLst>
            <a:outerShdw dist="17819" dir="2700000" blurRad="0" rotWithShape="0">
              <a:srgbClr val="982f2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ck-off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Aust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2895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09680" y="3976560"/>
            <a:ext cx="4572000" cy="381240"/>
          </a:xfrm>
          <a:prstGeom prst="flowChartProcess">
            <a:avLst/>
          </a:prstGeom>
          <a:solidFill>
            <a:srgbClr val="ff5050"/>
          </a:solidFill>
          <a:ln w="0">
            <a:noFill/>
          </a:ln>
          <a:effectLst>
            <a:outerShdw dist="17819" dir="2700000" blurRad="0" rotWithShape="0">
              <a:srgbClr val="982f2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ture MCT Mee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4387680"/>
            <a:ext cx="0" cy="381240"/>
          </a:xfrm>
          <a:prstGeom prst="line">
            <a:avLst/>
          </a:prstGeom>
          <a:ln w="19080">
            <a:solidFill>
              <a:srgbClr val="ff5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14800" y="4387680"/>
            <a:ext cx="0" cy="381240"/>
          </a:xfrm>
          <a:prstGeom prst="line">
            <a:avLst/>
          </a:prstGeom>
          <a:ln w="19080">
            <a:solidFill>
              <a:srgbClr val="ff5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4387680"/>
            <a:ext cx="0" cy="381240"/>
          </a:xfrm>
          <a:prstGeom prst="line">
            <a:avLst/>
          </a:prstGeom>
          <a:ln w="19080">
            <a:solidFill>
              <a:srgbClr val="ff5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4387680"/>
            <a:ext cx="0" cy="381240"/>
          </a:xfrm>
          <a:prstGeom prst="line">
            <a:avLst/>
          </a:prstGeom>
          <a:ln w="19080">
            <a:solidFill>
              <a:srgbClr val="ff5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4387680"/>
            <a:ext cx="0" cy="381240"/>
          </a:xfrm>
          <a:prstGeom prst="line">
            <a:avLst/>
          </a:prstGeom>
          <a:ln w="19080">
            <a:solidFill>
              <a:srgbClr val="ff5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66880" y="4359240"/>
            <a:ext cx="0" cy="380880"/>
          </a:xfrm>
          <a:prstGeom prst="line">
            <a:avLst/>
          </a:prstGeom>
          <a:ln w="19080">
            <a:solidFill>
              <a:srgbClr val="ff5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77120" y="4375080"/>
            <a:ext cx="0" cy="381240"/>
          </a:xfrm>
          <a:prstGeom prst="line">
            <a:avLst/>
          </a:prstGeom>
          <a:ln w="19080">
            <a:solidFill>
              <a:srgbClr val="ff5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5:21:16Z</dcterms:created>
  <dc:creator>jkassel</dc:creator>
  <dc:description/>
  <dc:language>en-US</dc:language>
  <cp:lastModifiedBy>jkassel</cp:lastModifiedBy>
  <dcterms:modified xsi:type="dcterms:W3CDTF">2005-03-04T14:09:39Z</dcterms:modified>
  <cp:revision>27</cp:revision>
  <dc:subject/>
  <dc:title>Slide 1</dc:title>
</cp:coreProperties>
</file>